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789C-F15E-411B-8F09-C863CE7B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96A8-A63C-411D-9DCE-46CCFAFD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D7B4-A725-4DCB-B23B-65462F13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043-12BA-412A-8B46-1144AE87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36A-365F-4211-8E8E-27E7A748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A44-76CB-4C55-8D74-B3CD6D6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FB8-026F-4271-9B94-889677FD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1EB-48BF-4C59-BBD8-5604CEBC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353-177C-4D48-B0FA-2A8922FF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502-02A4-4095-8ED6-9074733C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1EF3-DD7D-404C-BEE2-C1788F32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A8A-5B68-4EF6-BFDA-36DB60A5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73D6-5270-4CF9-BD1B-808BC24DD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1913040"/>
            <a:ext cx="85471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300" spc="-1" strike="noStrike">
                <a:solidFill>
                  <a:srgbClr val="e5ffff"/>
                </a:solidFill>
                <a:latin typeface="'times new roman'"/>
              </a:rPr>
              <a:t>The Catacombs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pe Pa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79520" y="609480"/>
            <a:ext cx="5194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bsites Used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1840" y="1730520"/>
            <a:ext cx="74170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http://www.catacombes-de-paris.fr/english.ht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http://www.thecircumference.org/catacombs-of-par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2240" y="473040"/>
            <a:ext cx="905508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e5ffff"/>
                </a:solidFill>
                <a:uFillTx/>
                <a:latin typeface="Arial"/>
              </a:rPr>
              <a:t>What is The Catacomb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52240" y="2251080"/>
            <a:ext cx="90550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tacomb is a tunnel in France, it was converted into a mass tomb near the end of the 18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1800" y="473040"/>
            <a:ext cx="905508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e5ffff"/>
                </a:solidFill>
                <a:uFillTx/>
                <a:latin typeface="Arial"/>
              </a:rPr>
              <a:t>Walls of Catacomb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4782960"/>
            <a:ext cx="3556080" cy="2509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22120" y="3619440"/>
            <a:ext cx="3873600" cy="3154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4440" y="1996920"/>
            <a:ext cx="7616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atacombes des Paris of Catacombs of Paris is where the dead were put for about 30 years, as you can see they put the dead in the wall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473040"/>
            <a:ext cx="905508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e5ffff"/>
                </a:solidFill>
                <a:uFillTx/>
                <a:latin typeface="Arial"/>
              </a:rPr>
              <a:t>Why People Are So Interested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2240" y="2251080"/>
            <a:ext cx="90550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are wanting to go to the Catacombs for what reason???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are so interested because it is different. After it is was created it came very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40160" y="4148280"/>
            <a:ext cx="50068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473040"/>
            <a:ext cx="9055080" cy="14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e5ffff"/>
                </a:solidFill>
                <a:uFillTx/>
                <a:latin typeface="Arial"/>
              </a:rPr>
              <a:t>The Cost Of Go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52240" y="2251080"/>
            <a:ext cx="90550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st of going to the Catacombs is €5 which for our money it would be about $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51160" y="3657600"/>
            <a:ext cx="30211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84440" y="507960"/>
            <a:ext cx="5187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 u="sng">
                <a:solidFill>
                  <a:srgbClr val="ffffff"/>
                </a:solidFill>
                <a:uFillTx/>
                <a:latin typeface="Arial"/>
              </a:rPr>
              <a:t>The Histo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1760" y="1930320"/>
            <a:ext cx="82584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eople decided that they wanted to stop people from putting more bodies in there.  That they decided on November 9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178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56080" y="3860640"/>
            <a:ext cx="27604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79520" y="914400"/>
            <a:ext cx="518796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How It Starte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55600" y="1930320"/>
            <a:ext cx="7718400" cy="20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started because they were in need to store the dead bod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54560" y="3352680"/>
            <a:ext cx="24001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0040" y="609480"/>
            <a:ext cx="6507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Good Exerciser Or No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9520" y="2031840"/>
            <a:ext cx="519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, there are 213 steps. That's a lo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79520" y="609480"/>
            <a:ext cx="5194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11360" y="1523880"/>
            <a:ext cx="2087280" cy="316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6400800" y="1727280"/>
            <a:ext cx="2979720" cy="2601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556080" y="4876920"/>
            <a:ext cx="255888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